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854-6640-4836-8A10-1BB9328C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41B-83E4-496D-999A-52992B33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C59-AD2D-4CC5-A0E6-36CD8A43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83A-7868-4C18-BC95-1DEAD792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0A0-2268-4940-A39B-857D72A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9FC-933E-44B1-8DB7-8807D0B4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62B-4075-4606-87DB-86165608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DD1-03F6-4898-B73D-464B15E2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CD1-9226-4AED-AE8D-1857EBAB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9C1-411E-4620-828D-6A29BD5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718-2B24-42A7-B8CB-4DC3177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822-6034-4ED3-A377-5EE59F0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193A-8EE3-403A-B565-D1E584089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-A Comm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Owner\My Documents\My Pictures\school\Metric System.bmp"/>
          <p:cNvPicPr/>
          <p:nvPr/>
        </p:nvPicPr>
        <p:blipFill>
          <a:blip r:embed="rId1"/>
          <a:stretch/>
        </p:blipFill>
        <p:spPr>
          <a:xfrm>
            <a:off x="2971800" y="2133720"/>
            <a:ext cx="3094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gure 4: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bserving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proper way to read a meniscus?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29714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milliliter marking at the bottom  of th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30184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5" descr="http://www.morrisonlabs.com/images/volumexamples/528meniscus.jpg"/>
          <p:cNvPicPr/>
          <p:nvPr/>
        </p:nvPicPr>
        <p:blipFill>
          <a:blip r:embed="rId1"/>
          <a:stretch/>
        </p:blipFill>
        <p:spPr>
          <a:xfrm>
            <a:off x="4267080" y="302904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Volume of Rectangular Soli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can the volume of a solid object such as a shoebox be measured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a solid objects that are regular shaped, a formula for volume can be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a rectangular object such as a shoebox, multiply the object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ength, width, and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I unit known for measuring solids with a larger volume is known as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ormula for calculating the volume of a rectangular object is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Length x Width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is the unit cm³ used when calculating the volume of a rectangular object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multiplying the object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ength, width and height, the cm units are also multi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m x cm x cm = 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a cereal box is 10 centimeters long, 4 centimeters wide, and 20 centimeters high.  What would be the volume of the box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Length x Width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10 cm x 4 cm x 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800 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ading Checkpoint (page 51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a cubic meter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 unit used to measure solids with a larger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ubic meter is equal to the volume of a cube that measures 1 meter on each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Volume of Irregular Soli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is the volume of an irregular solid such as a rock measured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the volume of an irregular solid, immerse the object in water, and measure how much the water level 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displacemen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es the water displacement method work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volume of water in the graduated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fully place the irregular solid into the water.  Record the volume of the water plus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 the volume of the water alone from the volume of the water plus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ount of space an object tak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Volume of Liqui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measuring the volume of a liquid, scientists use a unit known as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er (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measure the volume of smaller liquids, the _________ is used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lliliter (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strument used to measure the volume of liquids is called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uated cyli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dartmouth.edu/~chemlab/techniques/graphics/flasks/flasks3.gif"/>
          <p:cNvPicPr/>
          <p:nvPr/>
        </p:nvPicPr>
        <p:blipFill>
          <a:blip r:embed="rId1"/>
          <a:stretch/>
        </p:blipFill>
        <p:spPr>
          <a:xfrm>
            <a:off x="5257800" y="2514600"/>
            <a:ext cx="258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nstrument has markings that are in increments o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milliliter (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http://dl.clackamas.cc.or.us/ch104-02/images/104vol04.jpg"/>
          <p:cNvPicPr/>
          <p:nvPr/>
        </p:nvPicPr>
        <p:blipFill>
          <a:blip r:embed="rId1"/>
          <a:stretch/>
        </p:blipFill>
        <p:spPr>
          <a:xfrm>
            <a:off x="4800600" y="2286000"/>
            <a:ext cx="34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iscu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urve in the top surface of water in the graduated 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23:35Z</dcterms:created>
  <dc:creator>conantt</dc:creator>
  <dc:description/>
  <dc:language>en-US</dc:language>
  <cp:lastModifiedBy>St. Aloysius</cp:lastModifiedBy>
  <dcterms:modified xsi:type="dcterms:W3CDTF">2012-09-20T14:38:57Z</dcterms:modified>
  <cp:revision>12</cp:revision>
  <dc:subject/>
  <dc:title>Measurement-A Common Language</dc:title>
</cp:coreProperties>
</file>